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C8C-CB7A-4386-A62D-DF760592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DA3-7CE5-43AA-AE51-0A6C4A0D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460-4DDF-45F0-98B9-35DC4CDD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43B-753D-4BF2-9A21-43C79285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69D-BD71-46EE-BE43-FE38E4A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E47-D641-4C7F-92FF-E28C7650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47E-63D1-4BA0-BCA9-D0B8A0BA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87E-47DD-4C7B-92A9-2E814FD6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D4C-7E15-4D2C-B512-91D475DD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C4C-4BA4-439E-835E-370F1833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8EE-573F-4C29-800C-D872B74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E4F-DD7A-42D9-A833-057CB97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EC3-5E00-4202-8FB9-F4F3C1AF6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puzzlehouse.com/images/webpage/monalisa1000.jpg&amp;imgrefurl=http://www.puzzlehouse.com/monalisa140.htm&amp;usg=__zF5pKKkc1tSkP-JVrTIE5Or8Cf8=&amp;h=354&amp;w=267&amp;sz=28&amp;hl=en&amp;start=6&amp;sig2=z3xu2u_i6U3CcEN2gUvr9w&amp;um=1&amp;tbnid=eK0_HIshGYDUEM:&amp;tbnh=121&amp;tbnw=91&amp;ei=YbGcSZnDN46qsAPzxqS5Bw&amp;prev=/images%3Fq%3Dmonalisa%26um%3D1%26hl%3Den%26rlz%3D1T4SKPB_enUS283US283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upload.wikimedia.org/wikipedia/sl/thumb/7/7f/Mickey_Mouse.svg/200px-Mickey_Mouse.svg.png&amp;imgrefurl=http://sl.wikipedia.org/wiki/Miki_Mi%25C5%25A1ka&amp;usg=__me7YanjaLrfOqCCb9ut2G1EoGFg=&amp;h=230&amp;w=200&amp;sz=19&amp;hl=en&amp;start=2&amp;sig2=kM9Rft69aEi75o6-21rtgA&amp;um=1&amp;tbnid=99jVwlb-a6AeRM:&amp;tbnh=108&amp;tbnw=94&amp;ei=sLGcSfmcFZngsAOR1dS1Bw&amp;prev=/images%3Fq%3Dmiki%2Bmouse%26um%3D1%26hl%3Den%26rlz%3D1T4SKPB_enUS283US283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ה  שיער שחור  יש לה  שבעה  חברים טובים.   מי 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962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ה שיער חום  ועיניים שחור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יזה  צד  הי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2000160"/>
            <a:ext cx="7286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ו עיניים כחול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יזה  צד  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048120" cy="437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3956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ו עיניים  חומות  ושיער  שחור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יזה   צד   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04812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3956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רזה  וגבוה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 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20880" y="1752480"/>
            <a:ext cx="304776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2655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ה עיניים כחולות ושיער ארוך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552840" cy="476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524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ה שיער שחור ועיניים שחורות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יזה  צד  הי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495680" cy="3678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6520" y="1447920"/>
            <a:ext cx="3267000" cy="487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66360" y="63244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אה קבדי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5562720"/>
            <a:ext cx="26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ר  רפאלי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ו  שיע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חו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2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אסתי ממו  מאתיופיה  יש עיני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 ושיע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חומות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647676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הצבע  של  העיניים של מט דיימון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כחו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03840" y="1219320"/>
            <a:ext cx="3570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מתאימים  זה  לזה  ?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אתם חושב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לה  אימא . יש לה חיים קשים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ה  רגל  קטנה .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יש לה  סוף  טוב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 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8098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צבע העיניים של דיגו ל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חום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72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ג'ווייר  ברדם    ופנלופי קרוז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מתאימים זה  לז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הצבע של  העיניים של לאונרד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כחו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562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ו אף  ארוך. יש לו אבא טוב. הוא לא תמיד אומר את האמת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1148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55344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 לו   גוף    גדול   ולב  טוב.  הוא גבוה . 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                     מי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5812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3886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55344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 לה עיניים  חומות ושיער  חום יש לה  מקום במוזיאון הלובר  בפריז.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                 מי זא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5812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880" y="3352680"/>
            <a:ext cx="186372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3886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26280" y="3581280"/>
            <a:ext cx="1719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55344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 לו   ראש     גדול   וגוף   קטן  ואישה    רזה. יש   לו    בית בדיסנילנד.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                 מי ז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http://yddovm.blogspot.com/2008_04_01_archive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886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66880" y="3809880"/>
            <a:ext cx="1592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נמוך    צעיר    עם    שיער חום    .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  ז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81480" y="3352680"/>
            <a:ext cx="217152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89840" y="2438280"/>
            <a:ext cx="2057400" cy="2895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2770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 רזה   עם שיער  ארוך  בלונדינ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372120" cy="4496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238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ה  שיער  קצר  שחור  והיא   גבוה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10824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9531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1:01:33Z</dcterms:created>
  <dc:creator>Preferred Customer</dc:creator>
  <dc:description/>
  <dc:language>en-US</dc:language>
  <cp:lastModifiedBy>aschlezinger</cp:lastModifiedBy>
  <dcterms:modified xsi:type="dcterms:W3CDTF">2010-11-02T21:50:29Z</dcterms:modified>
  <cp:revision>4</cp:revision>
  <dc:subject/>
  <dc:title>יש לה  שיער שחור  יש לה  שבעה  חברים טובים.   מי זאת? </dc:title>
</cp:coreProperties>
</file>